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10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6.png" ContentType="image/png"/>
  <Override PartName="/ppt/media/image40.png" ContentType="image/png"/>
  <Override PartName="/ppt/media/image31.jpeg" ContentType="image/jpeg"/>
  <Override PartName="/ppt/media/image45.wmf" ContentType="image/x-wmf"/>
  <Override PartName="/ppt/media/image41.png" ContentType="image/png"/>
  <Override PartName="/ppt/media/image43.png" ContentType="image/png"/>
  <Override PartName="/ppt/media/image44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1C1B-CC0A-4A09-85BA-A1F9BF5135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7EB5-5559-4846-B04E-A3AC167DEA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D9AE-48F2-490C-9915-9FEFE8EE15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E23-5DDD-45E6-8589-13832D4C16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D0F1-56BB-4F01-B14D-DB28707252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F1E-9445-4AA6-B8B8-B263D6EB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9AE-8FE1-45C6-A77D-947DEBC3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A62-AB5D-4B11-A8BD-94BFDD89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297-7270-4FC3-8952-3914CBB9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56B4-FE69-4E71-9682-9CD520AC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F459-FB15-4659-9493-450C8FF7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2A75-4AD1-4368-BA51-8F7002F6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C9A5-50FB-4BAE-B4F0-47CB857D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D745-8FB5-4E4F-9AB7-9A2EA440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7DB6-0E73-49AD-B3C2-382971D9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6389-5E1B-4746-A618-86291A3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D64-4D1D-4E97-A27F-774D90F1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D46B-1B30-4A35-9312-FFDF485D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241A-894D-4655-8429-908F0A04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F1DD-D632-456A-87AD-9AA2D872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11F6-F4D0-4C4B-91AC-45F32A87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E7C7-8CB4-40CF-9517-2F4C3843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C2F9-FD12-4FA7-8991-D7A5FC59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E822-B06D-4588-B3FA-9D1DCC84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B268-5FEE-4781-9EF1-3EC2BEDC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86B8-4AB0-4157-9E62-BDECB122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2114-6E4F-4774-80F5-86BCE668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391-6B2B-465B-BE98-63879F97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61BE-28F2-44B8-BB28-29386168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B787-67A2-457E-B814-6EB55EE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F282-B6C6-4DA4-94AA-270B0F47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5BC5-BBC8-475F-8BF5-71DD2368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FA83-263C-4087-88CE-EA38D129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2B6B-1F39-49FA-B829-C13850D7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141B-D092-47DF-8DE6-85EC90B7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CB99-4C28-4815-A6D4-14FFC320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7445D-C487-4EEF-8760-803BE181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23A64-226B-4E2D-B5FA-D2DDC496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B72-4502-40AA-944A-22CF44C9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87EC-FD3F-49C0-9D7A-C7FA31EE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7334-7BCD-487A-A2E7-CB309FC2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2463-6BA6-4D90-B759-02225664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1440-D9F9-4973-9533-AE454343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753BA-C4BA-4708-B102-88BB6848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03A2-55AD-4867-9A15-0973EA7F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5A50-74FE-4206-8E0D-868C8722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A403-1865-48BF-9BBB-1454E95C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DF98-90B8-4299-BDB7-BB293892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94FD-A6B1-4BFC-9F53-B7E2B33D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57E-0A87-4FC7-914D-D82D8F57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9C11A-0A8D-4A4E-8B63-0B19DCAD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833E4-1913-4C6C-9D0F-68D24271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FBDF3-F7CC-4A0C-B8EC-1085EFCD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0B2EB-982C-420D-8E3D-BC987266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38B8-EE56-48DB-80AC-A12FD88C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ED39F-0E76-40A0-AB61-65166087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F7E5-9687-45A4-9A6C-7322D1EF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1B39-7A83-4E96-9D80-AAC7C2C8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22979-E600-4CAB-8C78-30E604BF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B9CC-2CC7-40FB-A35D-367498A5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DBE-349F-40D2-8908-652A15AC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F64C-E530-43C8-A78B-3E18D3AC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0900A-628F-4BED-A6E2-B3725F2E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322DB-1D2F-4464-AE70-8F822507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9FD33-831E-420C-BFFB-93C395C5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4D006-07FB-4EAA-82AC-3312A94A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A0735-7ED3-491C-AB3A-7BF29E5C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6F1CC-CBC6-4EF5-A489-76636D04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F8D7-D1D0-413A-B22B-A6D8DC07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4E305-9166-43FE-B04E-183B65BF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47429-971A-48D1-A6A2-48567D7D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DC8-11CC-4039-9524-9904F61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67D71-D4BA-42FE-9EFA-E350E192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FD942-B34A-482B-A5E8-1CC8825F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07329-42E5-4D05-944B-2158738A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07F-0119-4C32-94A1-D3368AC6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DF5-A2A9-48A3-A5F9-B78E6A22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51D6-09F3-4FFA-B238-AC0618D435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21D-A828-412E-9266-18453131E2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13DA-12BE-404B-9D93-54C20CAD95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8096-F524-4A3E-9DE3-377AF7E496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2CA0-07A5-439D-9B21-9EE339C9E3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3D8F-BA5F-4BD2-9F55-C86C58F688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4.xml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gtn.lokos.net/mdou/images/mdou50/skola1.gif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4557600" y="2301840"/>
            <a:ext cx="4434120" cy="2627280"/>
          </a:xfrm>
          <a:prstGeom prst="rect">
            <a:avLst/>
          </a:prstGeom>
          <a:ln w="0">
            <a:noFill/>
          </a:ln>
        </p:spPr>
      </p:pic>
      <p:pic>
        <p:nvPicPr>
          <p:cNvPr id="284" name="Заголовок 1" descr=""/>
          <p:cNvPicPr/>
          <p:nvPr/>
        </p:nvPicPr>
        <p:blipFill>
          <a:blip r:embed="rId2"/>
          <a:stretch/>
        </p:blipFill>
        <p:spPr>
          <a:xfrm>
            <a:off x="676440" y="590400"/>
            <a:ext cx="7864200" cy="1262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50560" y="2642760"/>
            <a:ext cx="4033800" cy="1722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на тему: «Глюкоза – представитель моносахаридов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 презентации прилагается развернутый план урока по данной теме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4646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4720" y="5084640"/>
            <a:ext cx="450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химии ГАПОУ КК «Курганинский аграрно-технологический техник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В.Пер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GCH_3C26_01Na"/>
          <p:cNvPicPr/>
          <p:nvPr/>
        </p:nvPicPr>
        <p:blipFill>
          <a:blip r:embed="rId1"/>
          <a:stretch/>
        </p:blipFill>
        <p:spPr>
          <a:xfrm>
            <a:off x="6357960" y="4786200"/>
            <a:ext cx="2500200" cy="18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3" name=""/>
          <p:cNvSpPr txBox="1"/>
          <p:nvPr/>
        </p:nvSpPr>
        <p:spPr>
          <a:xfrm>
            <a:off x="28584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рож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цесс разложения глюкозы под действием микроорганизмов или ферментов, сопровождающийся расщеплением углеродных связе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иртовое броже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уществляется под действием дрожжевых фермент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ы дрожжей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2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+ 2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4" name="Заголовок 2" descr=""/>
          <p:cNvPicPr/>
          <p:nvPr/>
        </p:nvPicPr>
        <p:blipFill>
          <a:blip r:embed="rId2"/>
          <a:stretch/>
        </p:blipFill>
        <p:spPr>
          <a:xfrm>
            <a:off x="433440" y="268200"/>
            <a:ext cx="8497800" cy="10242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5"/>
          <p:cNvSpPr/>
          <p:nvPr/>
        </p:nvSpPr>
        <p:spPr>
          <a:xfrm flipV="1">
            <a:off x="857160" y="6858000"/>
            <a:ext cx="74296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0" y="6478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Прямая со стрелкой 6"/>
          <p:cNvCxnSpPr/>
          <p:nvPr/>
        </p:nvCxnSpPr>
        <p:spPr>
          <a:xfrm>
            <a:off x="2626920" y="4436640"/>
            <a:ext cx="1072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Прямая со стрелкой 11"/>
          <p:cNvCxnSpPr/>
          <p:nvPr/>
        </p:nvCxnSpPr>
        <p:spPr>
          <a:xfrm flipV="1">
            <a:off x="6086520" y="414936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99680" y="1196640"/>
            <a:ext cx="818676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олочнокислое броже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бразованием молочной кислоты происходит под влиянием ферментов молочнокислых бактерий и используется в пищевой промышленности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2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НСООН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                       м/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ая кислот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0" name="Заголовок 2" descr=""/>
          <p:cNvPicPr/>
          <p:nvPr/>
        </p:nvPicPr>
        <p:blipFill>
          <a:blip r:embed="rId1"/>
          <a:stretch/>
        </p:blipFill>
        <p:spPr>
          <a:xfrm>
            <a:off x="487440" y="109440"/>
            <a:ext cx="8242200" cy="811440"/>
          </a:xfrm>
          <a:prstGeom prst="rect">
            <a:avLst/>
          </a:prstGeom>
          <a:ln w="0">
            <a:noFill/>
          </a:ln>
        </p:spPr>
      </p:pic>
      <p:cxnSp>
        <p:nvCxnSpPr>
          <p:cNvPr id="331" name="Прямая со стрелкой 3"/>
          <p:cNvCxnSpPr/>
          <p:nvPr/>
        </p:nvCxnSpPr>
        <p:spPr>
          <a:xfrm>
            <a:off x="3214800" y="3642840"/>
            <a:ext cx="1072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32" name="Picture 5" descr=""/>
          <p:cNvPicPr/>
          <p:nvPr/>
        </p:nvPicPr>
        <p:blipFill>
          <a:blip r:embed="rId2"/>
          <a:stretch/>
        </p:blipFill>
        <p:spPr>
          <a:xfrm>
            <a:off x="4932360" y="4497480"/>
            <a:ext cx="3286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71680" y="1196640"/>
            <a:ext cx="8186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слянокислое брож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ы приводит к образованию масляной кислот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/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Н + 2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2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                                                масляная кислот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335" name="Прямая со стрелкой 3"/>
          <p:cNvCxnSpPr/>
          <p:nvPr/>
        </p:nvCxnSpPr>
        <p:spPr>
          <a:xfrm>
            <a:off x="2857680" y="3214800"/>
            <a:ext cx="1072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6" name="Прямая со стрелкой 11"/>
          <p:cNvCxnSpPr/>
          <p:nvPr/>
        </p:nvCxnSpPr>
        <p:spPr>
          <a:xfrm flipV="1">
            <a:off x="8357040" y="285732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37" name="Рисунок 1" descr=""/>
          <p:cNvPicPr/>
          <p:nvPr/>
        </p:nvPicPr>
        <p:blipFill>
          <a:blip r:embed="rId2"/>
          <a:stretch/>
        </p:blipFill>
        <p:spPr>
          <a:xfrm>
            <a:off x="2604960" y="3645000"/>
            <a:ext cx="38386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48320" y="1643040"/>
            <a:ext cx="40384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оза (кетоз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9" name="Заголовок 3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451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14320"/>
            <a:ext cx="40384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(альдоз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1" name="Picture 13" descr=""/>
          <p:cNvPicPr/>
          <p:nvPr/>
        </p:nvPicPr>
        <p:blipFill>
          <a:blip r:embed="rId2"/>
          <a:stretch/>
        </p:blipFill>
        <p:spPr>
          <a:xfrm>
            <a:off x="941400" y="2106720"/>
            <a:ext cx="3452760" cy="1690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"/>
          <p:cNvPicPr/>
          <p:nvPr/>
        </p:nvPicPr>
        <p:blipFill>
          <a:blip r:embed="rId3"/>
          <a:srcRect l="18304" t="46230" r="40365" b="27471"/>
          <a:stretch/>
        </p:blipFill>
        <p:spPr>
          <a:xfrm>
            <a:off x="4859280" y="2095560"/>
            <a:ext cx="3427560" cy="17128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1" descr=""/>
          <p:cNvPicPr/>
          <p:nvPr/>
        </p:nvPicPr>
        <p:blipFill>
          <a:blip r:embed="rId4"/>
          <a:stretch/>
        </p:blipFill>
        <p:spPr>
          <a:xfrm>
            <a:off x="982800" y="3994200"/>
            <a:ext cx="73310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дицине (консервирование крови, внутривенное вливание, для приготовления лечебных препаратов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терское производств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285840" y="4429080"/>
            <a:ext cx="2714400" cy="2000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3"/>
          <a:stretch/>
        </p:blipFill>
        <p:spPr>
          <a:xfrm>
            <a:off x="3255840" y="4429080"/>
            <a:ext cx="2428920" cy="2000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4"/>
          <a:stretch/>
        </p:blipFill>
        <p:spPr>
          <a:xfrm>
            <a:off x="5940360" y="446400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157176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люкоза имеет формулу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олекула глюкозы по строению представляет собой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омером глюкозы является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природе глюкоза образуется в результате реакции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ля глюкозы и альдегидов характерна реакция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8" descr="http://opritiplanetavreausacobor.files.wordpress.com/2009/11/boy_thinking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4791240"/>
            <a:ext cx="16210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70028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льдегидоспир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руктоз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тосинтез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акция «серебряного зеркала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4" name="i-main-pic" descr="Картинка 366 из 293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1557360"/>
            <a:ext cx="2674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178704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сать уравнение взаимодействия глюкозы с гидроксидом мед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ак многоатомного спирт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шить задачу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ечения животного необходимо внутривенно ввести 250 мл 40% раствора глюкозы. Рассчитать массу глюкозы и воды для приготовления такого раство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j0410483[1]"/>
          <p:cNvPicPr/>
          <p:nvPr/>
        </p:nvPicPr>
        <p:blipFill>
          <a:blip r:embed="rId2"/>
          <a:stretch/>
        </p:blipFill>
        <p:spPr>
          <a:xfrm>
            <a:off x="6948360" y="274680"/>
            <a:ext cx="1611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1639800" y="493560"/>
            <a:ext cx="6437520" cy="41576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00040" y="407160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7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7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7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9" name="Picture 13" descr="виноград2"/>
          <p:cNvPicPr/>
          <p:nvPr/>
        </p:nvPicPr>
        <p:blipFill>
          <a:blip r:embed="rId2"/>
          <a:stretch/>
        </p:blipFill>
        <p:spPr>
          <a:xfrm>
            <a:off x="285840" y="785880"/>
            <a:ext cx="2214360" cy="1571400"/>
          </a:xfrm>
          <a:prstGeom prst="rect">
            <a:avLst/>
          </a:prstGeom>
          <a:ln w="12600">
            <a:solidFill>
              <a:srgbClr val="cc99ff"/>
            </a:solidFill>
            <a:miter/>
          </a:ln>
        </p:spPr>
      </p:pic>
      <p:pic>
        <p:nvPicPr>
          <p:cNvPr id="290" name="Picture 6" descr="соты"/>
          <p:cNvPicPr/>
          <p:nvPr/>
        </p:nvPicPr>
        <p:blipFill>
          <a:blip r:embed="rId3"/>
          <a:stretch/>
        </p:blipFill>
        <p:spPr>
          <a:xfrm>
            <a:off x="6429240" y="4643280"/>
            <a:ext cx="2357640" cy="1857600"/>
          </a:xfrm>
          <a:prstGeom prst="rect">
            <a:avLst/>
          </a:prstGeom>
          <a:ln w="1260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4581000"/>
            <a:ext cx="4114800" cy="15908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ожение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581000"/>
            <a:ext cx="4114800" cy="15908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а содержит несколько гидроксильных групп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499920" y="1444680"/>
            <a:ext cx="518652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гидроксидом мед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синее окрашива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чественная реакция на многоатомные спирты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571680" y="1643040"/>
            <a:ext cx="28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6840" y="4714920"/>
            <a:ext cx="4040280" cy="14572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ожение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4720" y="4714920"/>
            <a:ext cx="4041720" cy="14572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а содержит карбонильную групп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499920" y="1444680"/>
            <a:ext cx="518652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гидроксидом мед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гревани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красное окрашива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чественная реакция на альдегиды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28576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698400" y="927000"/>
            <a:ext cx="7674120" cy="525456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4"/>
          <p:cNvSpPr/>
          <p:nvPr/>
        </p:nvSpPr>
        <p:spPr>
          <a:xfrm>
            <a:off x="642960" y="214200"/>
            <a:ext cx="8072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молекулы глюкоз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900000" y="61815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 открытие формулы химического строения глюкозы Хеуорс был награжден Нобелевской премией в 193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44600" y="96840"/>
            <a:ext cx="8285040" cy="3408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2"/>
          <a:stretch/>
        </p:blipFill>
        <p:spPr>
          <a:xfrm>
            <a:off x="468360" y="2635200"/>
            <a:ext cx="8244000" cy="1870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3"/>
          <a:stretch/>
        </p:blipFill>
        <p:spPr>
          <a:xfrm>
            <a:off x="928800" y="457200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"/>
          <p:cNvPicPr/>
          <p:nvPr/>
        </p:nvPicPr>
        <p:blipFill>
          <a:blip r:embed="rId4"/>
          <a:stretch/>
        </p:blipFill>
        <p:spPr>
          <a:xfrm>
            <a:off x="5000760" y="457200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5"/>
          <a:stretch/>
        </p:blipFill>
        <p:spPr>
          <a:xfrm>
            <a:off x="928800" y="457200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7" descr=""/>
          <p:cNvPicPr/>
          <p:nvPr/>
        </p:nvPicPr>
        <p:blipFill>
          <a:blip r:embed="rId1"/>
          <a:stretch/>
        </p:blipFill>
        <p:spPr>
          <a:xfrm>
            <a:off x="77760" y="249120"/>
            <a:ext cx="1214640" cy="1285920"/>
          </a:xfrm>
          <a:prstGeom prst="rect">
            <a:avLst/>
          </a:prstGeom>
          <a:ln w="0">
            <a:noFill/>
          </a:ln>
        </p:spPr>
      </p:pic>
      <p:pic>
        <p:nvPicPr>
          <p:cNvPr id="311" name="Заголовок 1" descr=""/>
          <p:cNvPicPr/>
          <p:nvPr/>
        </p:nvPicPr>
        <p:blipFill>
          <a:blip r:embed="rId2"/>
          <a:stretch/>
        </p:blipFill>
        <p:spPr>
          <a:xfrm>
            <a:off x="682560" y="444600"/>
            <a:ext cx="8150400" cy="8478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57120" y="1499760"/>
            <a:ext cx="8429760" cy="50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– бесцветное кристаллическое вещество, хорошо растворимое в воде, сладкое на вкус (латинское слово «глюкос» – сладкий)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встречается почти во всех органах растения: в плодах, корнях, листьях, цветах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собенно много глюкозы в соке винограда и спелых фруктах, ягодах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глюкоза есть в животных организмах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 крови человека ее содержится примерно 0,1 %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3"/>
          <a:stretch/>
        </p:blipFill>
        <p:spPr>
          <a:xfrm>
            <a:off x="7286760" y="4797360"/>
            <a:ext cx="1500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85480" y="1213920"/>
            <a:ext cx="74833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йства, обусловленные наличием в молекуле карбонильной групп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люкоза окисляется аммиачным раствором оксида серебр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+ A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 + 2A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                                      глюконовая кислот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льдегидная группа глюкозы может восстанавливаться до спиртовой с образованием шестиатомного спирт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т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5" name="Заголовок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0242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5"/>
          <p:cNvSpPr/>
          <p:nvPr/>
        </p:nvSpPr>
        <p:spPr>
          <a:xfrm>
            <a:off x="1000080" y="4857840"/>
            <a:ext cx="74296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"/>
          <p:cNvSpPr/>
          <p:nvPr/>
        </p:nvSpPr>
        <p:spPr>
          <a:xfrm>
            <a:off x="-60480" y="541440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(СНОН)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+ Н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Н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(СНОН)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                                         сорб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3" descr=""/>
          <p:cNvPicPr/>
          <p:nvPr/>
        </p:nvPicPr>
        <p:blipFill>
          <a:blip r:embed="rId2"/>
          <a:stretch/>
        </p:blipFill>
        <p:spPr>
          <a:xfrm>
            <a:off x="7728120" y="1557360"/>
            <a:ext cx="13554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21392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йства, обусловленные наличием в молекуле гидроксильных групп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к многоатомный спирт реагирует с гидроксидом меди (II) c образованием алкоголята меди (II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0" name="Заголовок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024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875640" y="3500280"/>
            <a:ext cx="21301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5:15:46Z</dcterms:created>
  <dc:creator>Пользователь Windows</dc:creator>
  <dc:description/>
  <dc:language>en-US</dc:language>
  <cp:lastModifiedBy>1</cp:lastModifiedBy>
  <dcterms:modified xsi:type="dcterms:W3CDTF">2025-04-03T06:57:43Z</dcterms:modified>
  <cp:revision>89</cp:revision>
  <dc:subject/>
  <dc:title>Глюкоза в природе образуется в различных растениях в процессе фотосинтеза:</dc:title>
</cp:coreProperties>
</file>